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4503-2C92-4FCF-8A57-D4875E89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DD5-B6F0-40EF-85C6-4514814E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A84-4F7E-41A0-B7C9-48D05CED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2DDD-6E79-4E1D-A079-814B16A0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55BB-0B54-4966-81AD-095F131A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DEB1-5F6C-471C-8BFB-4DD3ADA1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98F8-4E4A-4941-B900-D5C4DF4D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B91C-A21F-4A28-BE7E-7FE8855D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E943-A034-4319-B390-12981545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F615-28A8-4E86-80BB-7F031553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8DD0-5479-4AF4-BDB1-185A49D4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8940-A6A4-4BD1-8E7B-0C8531EE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1B08-F99D-421A-9B9B-5EC8C613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9CEF-FBAB-4EEE-ADB8-A22C08F8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A29F-F6CB-4268-B70E-C7D4D887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CD4A-40E2-43B5-ADA7-74F760CA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DAE1-AFCB-47D3-A15E-03420ED4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5426C-2A08-48C2-A443-B8A0A5E8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00953-6E12-4759-8533-5E7E8E18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018D9-D8F9-410D-8227-B253E75F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71023-91D7-487B-B35A-7784DD51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0BCDB-14B4-4018-ADDE-A62B4124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698-CBDE-4F73-8BF2-6419EA7C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CCDB5-44C3-435A-A3DA-4A32261E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00D0E-3577-43EE-B538-B2E4810F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3D06A-2916-4DDF-A48E-F3A8ECEC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6E6E3-EA50-4095-8601-2D9614E0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38E7B-FE95-4FAA-83D2-76367E64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803AC-ABAB-4949-AFB7-0A02FD95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7F2C4-A7E4-4BBE-8E9F-EDACE8B0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86C76-B91E-4B6F-B67A-3E91BF3F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5AED4-E893-4050-A79A-0D242519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9CDF1-9C22-4AD0-8FC6-59369BC1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F739-2E6F-4B51-B295-9986E9FC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C7154-B9C0-4552-9C43-1EBA0251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1C835-A352-45C8-9C19-E9E58CC3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828BB-F8FD-4266-A59E-7819A85A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1713F-8A73-4840-A8AE-6062C475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1FDBC-FA81-4636-8398-1AE6F927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C3012-41C8-4B74-BF28-C3749555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29749-F7DE-4A20-8D5A-6419E055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084DA-9315-47D5-BA1C-CF6BC138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6BAC4-520D-4AD2-ACE2-F87447EF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E01C7-E0AD-4C99-9F19-340472A0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532-FA7B-4299-A0CE-3962935F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E2771-443B-4831-81B7-24555929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65738-15C9-47C8-85D8-96196803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15564-3132-46C1-AEAA-7D3F71ED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23DA6-096E-403D-916F-D18D2B0D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D6491-CBF0-4ED3-A304-73BCFC50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15101-D98F-4AE3-8324-FC11E7E9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264DE-A58F-4454-AF51-03ABA03B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59A0D-6358-40BE-A11B-AD0F991F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A808A-7BA6-4C9B-ACC8-95B76961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2B4E9-2920-4C35-BA21-C3534E29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1EAE-6EF0-47F6-AA2A-83AF9EF2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204A8-5E84-4C2D-BF0E-D00F569E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13FE1-8E38-48CE-B0AB-E7A49A99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E294E-B993-4BD8-BEA9-E2BA3DE6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FC07A-8DBD-4295-B9E5-957B5AEB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57995-EC76-4C1D-8EFB-1D964E17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64ECB-D451-4D68-BFF8-5EE884AA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A0724-63B6-4F94-AFC0-3531C6F6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3AB81-FF81-49A4-8B1D-DA19D17B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40FF4-F825-4B50-9D05-B2186D5D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09EB3-826D-42EC-9C14-15FDD4DC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F02A-5BC8-4B85-BE88-0628C447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7EE5C-127F-4878-87E5-F6C73C4A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C3F86-A4C8-4EB9-8E1D-EC508023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45C9A-AE7D-4799-934F-106E9D3F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191A0-DB25-4095-B10B-319FFA56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CA7E7-A451-4289-B02F-4BCBC602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28ABF-4039-4330-99B2-6C9D9419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5946C-6CF5-4B09-9A18-D9BF4354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FA4E5-60CD-4907-93DE-6C346067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C131A-7126-49AF-80EA-273940C2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0BA63-12D3-442F-9855-D24A3ACE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0414-D3E7-4A0E-827A-C503757E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30A4F-0AA5-4775-84DE-E12563DF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A72E5-A7C5-415F-A735-6F061149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EDF61-0BB6-4CAE-917F-071E3BA1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915CC-5541-458A-A67C-A7ECEACF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814CC-97E6-4C63-BCF9-748E1C95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3ECE-9D29-43B3-8C44-4E2C0EA6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CE68-95F5-48F2-9578-A6F1B05690A3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E977-B042-4FBC-9B65-C3873AD37D28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0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C8B0-9FB5-45F7-897F-48E81E1C55D0}" type="slidenum">
              <a:rPr b="0" lang="en-A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7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9FAF-E005-4248-9990-74669A6C70E9}" type="slidenum">
              <a:rPr b="0" lang="en-A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35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F659-C14F-444A-AA9E-DB509281E833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9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B69D-7C97-420E-BEEF-62D6C0794949}" type="slidenum">
              <a:rPr b="0" lang="en-A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37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9991-6DD8-41F3-A7D4-D9E099E8197D}" type="slidenum">
              <a:rPr b="0" lang="en-A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eec94"/>
                </a:solidFill>
                <a:latin typeface="Times New Roman"/>
              </a:rPr>
              <a:t>The Endocrine Syste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This system controls many of the biochemical pathways that occur in your bod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The core tool used by the endocrine system is a compound called a </a:t>
            </a:r>
            <a:r>
              <a:rPr b="1" lang="en-AU" sz="2800" spc="-1" strike="noStrike">
                <a:solidFill>
                  <a:srgbClr val="00ff00"/>
                </a:solidFill>
                <a:latin typeface="Times New Roman"/>
              </a:rPr>
              <a:t>hormone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. Your body uses dozens of hormones to regulate your growth, digestion, body temperature, and glucose metabolism (to name a few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A hormone released by an endocrine gland can travel throughout the body and change the activity of cells from many other system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The endocrine system is also unique in that it uses glands and cells within organs that are all closely related to other system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easing and inhibiting hormones secreted by the hypothalamus control the anterior pituit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24000" y="285264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brain and anterior pituitary also produce endorph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"/>
          <p:cNvPicPr/>
          <p:nvPr/>
        </p:nvPicPr>
        <p:blipFill>
          <a:blip r:embed="rId1"/>
          <a:srcRect l="0" t="0" r="0" b="12000"/>
          <a:stretch/>
        </p:blipFill>
        <p:spPr>
          <a:xfrm>
            <a:off x="1600200" y="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3"/>
          <p:cNvSpPr/>
          <p:nvPr/>
        </p:nvSpPr>
        <p:spPr>
          <a:xfrm>
            <a:off x="6094440" y="533520"/>
            <a:ext cx="13100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urosecretor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1676520" y="2133720"/>
            <a:ext cx="11239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od vess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1676160" y="2625840"/>
            <a:ext cx="1683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easing hormon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hypothala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6020640" y="3387600"/>
            <a:ext cx="1665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ocrine cells of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anterior pitu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5666040" y="4086360"/>
            <a:ext cx="1572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tuitary 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"/>
          <p:cNvSpPr/>
          <p:nvPr/>
        </p:nvSpPr>
        <p:spPr>
          <a:xfrm>
            <a:off x="1830240" y="5051520"/>
            <a:ext cx="4856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2745000" y="5051520"/>
            <a:ext cx="603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0"/>
          <p:cNvSpPr/>
          <p:nvPr/>
        </p:nvSpPr>
        <p:spPr>
          <a:xfrm>
            <a:off x="3735360" y="5051520"/>
            <a:ext cx="48564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S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1"/>
          <p:cNvSpPr/>
          <p:nvPr/>
        </p:nvSpPr>
        <p:spPr>
          <a:xfrm>
            <a:off x="4556160" y="5051520"/>
            <a:ext cx="83304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rmon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2"/>
          <p:cNvSpPr/>
          <p:nvPr/>
        </p:nvSpPr>
        <p:spPr>
          <a:xfrm>
            <a:off x="5563800" y="5051520"/>
            <a:ext cx="834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lact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R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3"/>
          <p:cNvSpPr/>
          <p:nvPr/>
        </p:nvSpPr>
        <p:spPr>
          <a:xfrm>
            <a:off x="6555600" y="5051520"/>
            <a:ext cx="10281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orph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4"/>
          <p:cNvSpPr/>
          <p:nvPr/>
        </p:nvSpPr>
        <p:spPr>
          <a:xfrm>
            <a:off x="1695960" y="5965920"/>
            <a:ext cx="7401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yr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5"/>
          <p:cNvSpPr/>
          <p:nvPr/>
        </p:nvSpPr>
        <p:spPr>
          <a:xfrm>
            <a:off x="2618640" y="5965920"/>
            <a:ext cx="7491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rena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6"/>
          <p:cNvSpPr/>
          <p:nvPr/>
        </p:nvSpPr>
        <p:spPr>
          <a:xfrm>
            <a:off x="3552840" y="5965920"/>
            <a:ext cx="860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es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7"/>
          <p:cNvSpPr/>
          <p:nvPr/>
        </p:nvSpPr>
        <p:spPr>
          <a:xfrm>
            <a:off x="4668480" y="5965920"/>
            <a:ext cx="6134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ir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8"/>
          <p:cNvSpPr/>
          <p:nvPr/>
        </p:nvSpPr>
        <p:spPr>
          <a:xfrm>
            <a:off x="5465880" y="5965920"/>
            <a:ext cx="116532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and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in mamm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9"/>
          <p:cNvSpPr/>
          <p:nvPr/>
        </p:nvSpPr>
        <p:spPr>
          <a:xfrm>
            <a:off x="6612480" y="5965920"/>
            <a:ext cx="100368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eptor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the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0"/>
          <p:cNvSpPr/>
          <p:nvPr/>
        </p:nvSpPr>
        <p:spPr>
          <a:xfrm>
            <a:off x="5410080" y="457200"/>
            <a:ext cx="685800" cy="228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1"/>
          <p:cNvSpPr/>
          <p:nvPr/>
        </p:nvSpPr>
        <p:spPr>
          <a:xfrm>
            <a:off x="2743200" y="2286000"/>
            <a:ext cx="1752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22"/>
          <p:cNvSpPr/>
          <p:nvPr/>
        </p:nvSpPr>
        <p:spPr>
          <a:xfrm flipV="1">
            <a:off x="3352680" y="2437920"/>
            <a:ext cx="1143000" cy="304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23"/>
          <p:cNvSpPr/>
          <p:nvPr/>
        </p:nvSpPr>
        <p:spPr>
          <a:xfrm>
            <a:off x="3352680" y="2743200"/>
            <a:ext cx="1219320" cy="304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4"/>
          <p:cNvSpPr/>
          <p:nvPr/>
        </p:nvSpPr>
        <p:spPr>
          <a:xfrm>
            <a:off x="5181480" y="3429000"/>
            <a:ext cx="838440" cy="76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5"/>
          <p:cNvSpPr/>
          <p:nvPr/>
        </p:nvSpPr>
        <p:spPr>
          <a:xfrm flipV="1">
            <a:off x="5105520" y="3504960"/>
            <a:ext cx="914400" cy="75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26"/>
          <p:cNvSpPr/>
          <p:nvPr/>
        </p:nvSpPr>
        <p:spPr>
          <a:xfrm>
            <a:off x="4952880" y="3809880"/>
            <a:ext cx="762120" cy="38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27"/>
          <p:cNvSpPr/>
          <p:nvPr/>
        </p:nvSpPr>
        <p:spPr>
          <a:xfrm>
            <a:off x="4572000" y="3809880"/>
            <a:ext cx="1143000" cy="38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8"/>
          <p:cNvSpPr/>
          <p:nvPr/>
        </p:nvSpPr>
        <p:spPr>
          <a:xfrm>
            <a:off x="533520" y="62485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6.5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b9efee"/>
                </a:solidFill>
                <a:latin typeface="Garamond"/>
              </a:rPr>
              <a:t>Glands in the Endocrine syste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AU" sz="3200" spc="-1" strike="noStrike">
                <a:solidFill>
                  <a:srgbClr val="ffff00"/>
                </a:solidFill>
                <a:latin typeface="Garamond"/>
              </a:rPr>
              <a:t>Pituitary – The Master Gl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regulates many body activ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produces growth hormone and many oth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located at the base of the br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341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aramond"/>
              </a:rPr>
              <a:t>Posterior pituit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304920" y="1371600"/>
            <a:ext cx="8534160" cy="39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Composed of nervous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Stores and secretes hormones made in the hypothala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aramond"/>
              </a:rPr>
              <a:t>Anterior pitui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Composed of glandular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Exerts control over the anterior pituitary by secreting releasing hormones or inhibiting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b9efee"/>
                </a:solidFill>
                <a:latin typeface="Garamond"/>
              </a:rPr>
              <a:t>Glands in the Endocrine syste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AU" sz="3200" spc="-1" strike="noStrike">
                <a:solidFill>
                  <a:srgbClr val="ffff00"/>
                </a:solidFill>
                <a:latin typeface="Garamond"/>
              </a:rPr>
              <a:t>Thyroid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regulates metabolism and grow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produces thyrox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located base of the ne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b9efee"/>
                </a:solidFill>
                <a:latin typeface="Garamond"/>
              </a:rPr>
              <a:t>Glands in the Endocrine syste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AU" sz="3200" spc="-1" strike="noStrike">
                <a:solidFill>
                  <a:srgbClr val="ffff00"/>
                </a:solidFill>
                <a:latin typeface="Garamond"/>
              </a:rPr>
              <a:t>Adren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regulates metabolism and response to st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produces cortisol and adrenal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located above the kidne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b9efee"/>
                </a:solidFill>
                <a:latin typeface="Garamond"/>
              </a:rPr>
              <a:t>Glands in the Endocrine syste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AU" sz="3200" spc="-1" strike="noStrike">
                <a:solidFill>
                  <a:srgbClr val="ffff00"/>
                </a:solidFill>
                <a:latin typeface="Garamond"/>
              </a:rPr>
              <a:t>Pancre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regulates blood glucose concent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produces insulin and glucag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located near the stom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b9efee"/>
                </a:solidFill>
                <a:latin typeface="Garamond"/>
              </a:rPr>
              <a:t>Glands in the Endocrine syste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AU" sz="3200" spc="-1" strike="noStrike">
                <a:solidFill>
                  <a:srgbClr val="ffff00"/>
                </a:solidFill>
                <a:latin typeface="Garamond"/>
              </a:rPr>
              <a:t>Testes and Ova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regulates fertility and secondary sex character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produces testosterone (Testes), progesterone and oestrogens (Ovari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228600" y="6172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26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3" descr=""/>
          <p:cNvPicPr/>
          <p:nvPr/>
        </p:nvPicPr>
        <p:blipFill>
          <a:blip r:embed="rId1"/>
          <a:srcRect l="0" t="0" r="0" b="3942"/>
          <a:stretch/>
        </p:blipFill>
        <p:spPr>
          <a:xfrm>
            <a:off x="190440" y="457200"/>
            <a:ext cx="876312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228600" y="61722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26.3, pa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1"/>
          <a:srcRect l="0" t="0" r="0" b="4052"/>
          <a:stretch/>
        </p:blipFill>
        <p:spPr>
          <a:xfrm>
            <a:off x="228600" y="314280"/>
            <a:ext cx="868680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dbbd71"/>
                </a:solidFill>
                <a:latin typeface="Arial"/>
              </a:rPr>
              <a:t>Hormon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- chemicals produced in endocrine gla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- help maintain homeosta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- transported to other parts of the body through the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bloodstre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- act on other organs and tissues of the bo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- secreted directly into the bloodstre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- only act on cells that have particular receptors for that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orm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dbbd71"/>
                </a:solidFill>
                <a:latin typeface="Arial"/>
              </a:rPr>
              <a:t>Hormon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- respond to vital changes to the internal environment of cel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- information about the direction of change is transported to other parts of the 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- messages lead to a change in the vital factor (reverse to the initial one) to restore normal range NEGATIVE FEEDBACK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2362320" y="0"/>
            <a:ext cx="4975200" cy="6400800"/>
          </a:xfrm>
          <a:prstGeom prst="rect">
            <a:avLst/>
          </a:prstGeom>
          <a:ln w="0">
            <a:noFill/>
          </a:ln>
        </p:spPr>
      </p:pic>
      <p:sp>
        <p:nvSpPr>
          <p:cNvPr id="434" name="Line 3"/>
          <p:cNvSpPr/>
          <p:nvPr/>
        </p:nvSpPr>
        <p:spPr>
          <a:xfrm>
            <a:off x="4495680" y="304920"/>
            <a:ext cx="114300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3123720" y="152280"/>
            <a:ext cx="1406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3122280" y="609480"/>
            <a:ext cx="1230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neal g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6"/>
          <p:cNvSpPr/>
          <p:nvPr/>
        </p:nvSpPr>
        <p:spPr>
          <a:xfrm>
            <a:off x="3121560" y="990720"/>
            <a:ext cx="1419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tuitary g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1903680" y="144792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yroid g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1902240" y="1752480"/>
            <a:ext cx="1794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athyroid gl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9"/>
          <p:cNvSpPr/>
          <p:nvPr/>
        </p:nvSpPr>
        <p:spPr>
          <a:xfrm>
            <a:off x="1905840" y="2286000"/>
            <a:ext cx="861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ym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0"/>
          <p:cNvSpPr/>
          <p:nvPr/>
        </p:nvSpPr>
        <p:spPr>
          <a:xfrm>
            <a:off x="1903320" y="2666880"/>
            <a:ext cx="14670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renal gland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top kidney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1905120" y="3733920"/>
            <a:ext cx="973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2"/>
          <p:cNvSpPr/>
          <p:nvPr/>
        </p:nvSpPr>
        <p:spPr>
          <a:xfrm>
            <a:off x="1902600" y="4800600"/>
            <a:ext cx="142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vary (fema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3"/>
          <p:cNvSpPr/>
          <p:nvPr/>
        </p:nvSpPr>
        <p:spPr>
          <a:xfrm>
            <a:off x="1902600" y="5486400"/>
            <a:ext cx="1271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is (ma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"/>
          <p:cNvSpPr/>
          <p:nvPr/>
        </p:nvSpPr>
        <p:spPr>
          <a:xfrm flipV="1">
            <a:off x="4343400" y="685800"/>
            <a:ext cx="1143000" cy="76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5"/>
          <p:cNvSpPr/>
          <p:nvPr/>
        </p:nvSpPr>
        <p:spPr>
          <a:xfrm flipV="1">
            <a:off x="4495680" y="837720"/>
            <a:ext cx="1143000" cy="304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6"/>
          <p:cNvSpPr/>
          <p:nvPr/>
        </p:nvSpPr>
        <p:spPr>
          <a:xfrm>
            <a:off x="3276720" y="1600200"/>
            <a:ext cx="21333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7"/>
          <p:cNvSpPr/>
          <p:nvPr/>
        </p:nvSpPr>
        <p:spPr>
          <a:xfrm flipV="1">
            <a:off x="3657600" y="1676160"/>
            <a:ext cx="1752480" cy="228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8"/>
          <p:cNvSpPr/>
          <p:nvPr/>
        </p:nvSpPr>
        <p:spPr>
          <a:xfrm flipV="1">
            <a:off x="3657600" y="1828800"/>
            <a:ext cx="1752480" cy="76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9"/>
          <p:cNvSpPr/>
          <p:nvPr/>
        </p:nvSpPr>
        <p:spPr>
          <a:xfrm>
            <a:off x="2743200" y="2438280"/>
            <a:ext cx="27432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0"/>
          <p:cNvSpPr/>
          <p:nvPr/>
        </p:nvSpPr>
        <p:spPr>
          <a:xfrm>
            <a:off x="3352680" y="2819520"/>
            <a:ext cx="2438640" cy="685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1"/>
          <p:cNvSpPr/>
          <p:nvPr/>
        </p:nvSpPr>
        <p:spPr>
          <a:xfrm>
            <a:off x="3352680" y="2819520"/>
            <a:ext cx="190512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2"/>
          <p:cNvSpPr/>
          <p:nvPr/>
        </p:nvSpPr>
        <p:spPr>
          <a:xfrm flipV="1">
            <a:off x="2843280" y="3886200"/>
            <a:ext cx="2643120" cy="47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3"/>
          <p:cNvSpPr/>
          <p:nvPr/>
        </p:nvSpPr>
        <p:spPr>
          <a:xfrm>
            <a:off x="3276720" y="4952880"/>
            <a:ext cx="19047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4"/>
          <p:cNvSpPr/>
          <p:nvPr/>
        </p:nvSpPr>
        <p:spPr>
          <a:xfrm>
            <a:off x="3124080" y="5638680"/>
            <a:ext cx="25146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5"/>
          <p:cNvSpPr/>
          <p:nvPr/>
        </p:nvSpPr>
        <p:spPr>
          <a:xfrm>
            <a:off x="1905120" y="6172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6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6"/>
          <p:cNvSpPr/>
          <p:nvPr/>
        </p:nvSpPr>
        <p:spPr>
          <a:xfrm>
            <a:off x="3425760" y="6093000"/>
            <a:ext cx="56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Glands of the Endocri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2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"/>
          <p:cNvPicPr/>
          <p:nvPr/>
        </p:nvPicPr>
        <p:blipFill>
          <a:blip r:embed="rId1"/>
          <a:srcRect l="0" t="0" r="0" b="3244"/>
          <a:stretch/>
        </p:blipFill>
        <p:spPr>
          <a:xfrm>
            <a:off x="2498760" y="1676520"/>
            <a:ext cx="4130640" cy="426708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14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ostasis is maintained by negative-feedback mechanisms coupled with environmental c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2498760" y="6172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6.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2734920" y="2001960"/>
            <a:ext cx="1406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3719880" y="2590920"/>
            <a:ext cx="5450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2629080" y="3220920"/>
            <a:ext cx="1628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erior pituit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8"/>
          <p:cNvSpPr/>
          <p:nvPr/>
        </p:nvSpPr>
        <p:spPr>
          <a:xfrm>
            <a:off x="3704040" y="3886200"/>
            <a:ext cx="535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9"/>
          <p:cNvSpPr/>
          <p:nvPr/>
        </p:nvSpPr>
        <p:spPr>
          <a:xfrm>
            <a:off x="3021120" y="4516560"/>
            <a:ext cx="8330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yr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0"/>
          <p:cNvSpPr/>
          <p:nvPr/>
        </p:nvSpPr>
        <p:spPr>
          <a:xfrm>
            <a:off x="2916000" y="5638680"/>
            <a:ext cx="10310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yrox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1"/>
          <p:cNvSpPr/>
          <p:nvPr/>
        </p:nvSpPr>
        <p:spPr>
          <a:xfrm>
            <a:off x="5316840" y="2971800"/>
            <a:ext cx="9824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Inhib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b9efee"/>
                </a:solidFill>
                <a:latin typeface="Garamond"/>
              </a:rPr>
              <a:t>Glands in the Endocrine syste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AU" sz="3200" spc="-1" strike="noStrike">
                <a:solidFill>
                  <a:srgbClr val="ffff00"/>
                </a:solidFill>
                <a:latin typeface="Garamond"/>
              </a:rPr>
              <a:t>Hypothala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regulates many body activ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produces many hormon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- located at the base of the br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"/>
          <p:cNvPicPr/>
          <p:nvPr/>
        </p:nvPicPr>
        <p:blipFill>
          <a:blip r:embed="rId1"/>
          <a:srcRect l="0" t="0" r="0" b="4493"/>
          <a:stretch/>
        </p:blipFill>
        <p:spPr>
          <a:xfrm>
            <a:off x="990720" y="3429000"/>
            <a:ext cx="7173720" cy="30402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266760" y="1218960"/>
            <a:ext cx="8610480" cy="20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hypothalamus is the master control center of the endocrine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regulates the posterior and anterior pituitary gl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266760" y="763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63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Garamond"/>
              </a:rPr>
              <a:t>The hypothalamus, closely tied to the pituitary, connects the nervous and endocrine systems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609480" y="6172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6.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7"/>
          <p:cNvSpPr/>
          <p:nvPr/>
        </p:nvSpPr>
        <p:spPr>
          <a:xfrm>
            <a:off x="1600200" y="3657600"/>
            <a:ext cx="609480" cy="6094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962640" y="3505320"/>
            <a:ext cx="636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9"/>
          <p:cNvSpPr/>
          <p:nvPr/>
        </p:nvSpPr>
        <p:spPr>
          <a:xfrm>
            <a:off x="6629400" y="4363920"/>
            <a:ext cx="1447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0"/>
          <p:cNvSpPr/>
          <p:nvPr/>
        </p:nvSpPr>
        <p:spPr>
          <a:xfrm>
            <a:off x="6248520" y="3962520"/>
            <a:ext cx="533160" cy="3808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1"/>
          <p:cNvSpPr/>
          <p:nvPr/>
        </p:nvSpPr>
        <p:spPr>
          <a:xfrm>
            <a:off x="2362320" y="5430960"/>
            <a:ext cx="1752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erior pituit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2"/>
          <p:cNvSpPr/>
          <p:nvPr/>
        </p:nvSpPr>
        <p:spPr>
          <a:xfrm flipV="1">
            <a:off x="4038480" y="5257440"/>
            <a:ext cx="1524240" cy="3049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3"/>
          <p:cNvSpPr/>
          <p:nvPr/>
        </p:nvSpPr>
        <p:spPr>
          <a:xfrm>
            <a:off x="2362320" y="5791320"/>
            <a:ext cx="1752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4"/>
          <p:cNvSpPr/>
          <p:nvPr/>
        </p:nvSpPr>
        <p:spPr>
          <a:xfrm>
            <a:off x="2362320" y="6095880"/>
            <a:ext cx="1752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erior pituit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5"/>
          <p:cNvSpPr/>
          <p:nvPr/>
        </p:nvSpPr>
        <p:spPr>
          <a:xfrm flipV="1">
            <a:off x="2971800" y="5638320"/>
            <a:ext cx="1600200" cy="3049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6"/>
          <p:cNvSpPr/>
          <p:nvPr/>
        </p:nvSpPr>
        <p:spPr>
          <a:xfrm flipV="1">
            <a:off x="3962520" y="5866920"/>
            <a:ext cx="2361960" cy="381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66760" y="1143000"/>
            <a:ext cx="8610480" cy="33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urosecretory cells extending from the hypothalamus into the posterior pituit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nthesize oxytocin and antidiuretic hormone (ADH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nsmit nerve signals that trigger oxytocin and ADH release from the posterior pituit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266760" y="763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636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Garamond"/>
              </a:rPr>
              <a:t>The hypothalamus and pituitary have multiple endocrine functions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"/>
          <p:cNvPicPr/>
          <p:nvPr/>
        </p:nvPicPr>
        <p:blipFill>
          <a:blip r:embed="rId1"/>
          <a:srcRect l="0" t="0" r="0" b="10001"/>
          <a:stretch/>
        </p:blipFill>
        <p:spPr>
          <a:xfrm>
            <a:off x="2819520" y="152280"/>
            <a:ext cx="4198680" cy="6096240"/>
          </a:xfrm>
          <a:prstGeom prst="rect">
            <a:avLst/>
          </a:prstGeom>
          <a:ln w="0">
            <a:noFill/>
          </a:ln>
        </p:spPr>
      </p:pic>
      <p:sp>
        <p:nvSpPr>
          <p:cNvPr id="489" name="Line 3"/>
          <p:cNvSpPr/>
          <p:nvPr/>
        </p:nvSpPr>
        <p:spPr>
          <a:xfrm flipV="1">
            <a:off x="3805200" y="1295280"/>
            <a:ext cx="1523880" cy="533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4262760" y="401760"/>
            <a:ext cx="12322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1371600" y="6278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6.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2584440" y="1676520"/>
            <a:ext cx="13100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urosecretor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2587320" y="2333520"/>
            <a:ext cx="849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rm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2586240" y="3124080"/>
            <a:ext cx="851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teri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tu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9"/>
          <p:cNvSpPr/>
          <p:nvPr/>
        </p:nvSpPr>
        <p:spPr>
          <a:xfrm>
            <a:off x="3423240" y="3962520"/>
            <a:ext cx="6501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ss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6145200" y="4038480"/>
            <a:ext cx="782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ri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tu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5046480" y="5105520"/>
            <a:ext cx="5097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3060000" y="6130800"/>
            <a:ext cx="1428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terine 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mm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3"/>
          <p:cNvSpPr/>
          <p:nvPr/>
        </p:nvSpPr>
        <p:spPr>
          <a:xfrm>
            <a:off x="4586040" y="6130800"/>
            <a:ext cx="1275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idney tub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4"/>
          <p:cNvSpPr/>
          <p:nvPr/>
        </p:nvSpPr>
        <p:spPr>
          <a:xfrm>
            <a:off x="3349080" y="5105520"/>
            <a:ext cx="8344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xytoc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5"/>
          <p:cNvSpPr/>
          <p:nvPr/>
        </p:nvSpPr>
        <p:spPr>
          <a:xfrm flipV="1">
            <a:off x="3424320" y="2209320"/>
            <a:ext cx="1523880" cy="228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6"/>
          <p:cNvSpPr/>
          <p:nvPr/>
        </p:nvSpPr>
        <p:spPr>
          <a:xfrm>
            <a:off x="3424320" y="3276720"/>
            <a:ext cx="9903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7"/>
          <p:cNvSpPr/>
          <p:nvPr/>
        </p:nvSpPr>
        <p:spPr>
          <a:xfrm flipV="1">
            <a:off x="4033800" y="3962160"/>
            <a:ext cx="609480" cy="152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8"/>
          <p:cNvSpPr/>
          <p:nvPr/>
        </p:nvSpPr>
        <p:spPr>
          <a:xfrm>
            <a:off x="5481720" y="3733920"/>
            <a:ext cx="68580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03:27:51Z</dcterms:created>
  <dc:creator>Lyn Clarkson</dc:creator>
  <dc:description/>
  <dc:language>en-US</dc:language>
  <cp:lastModifiedBy>Lyn Clarkson</cp:lastModifiedBy>
  <dcterms:modified xsi:type="dcterms:W3CDTF">2009-07-17T00:55:22Z</dcterms:modified>
  <cp:revision>12</cp:revision>
  <dc:subject/>
  <dc:title>Slide 1</dc:title>
</cp:coreProperties>
</file>